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B19B-DF24-44BC-8DCB-5EC8A8B5C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5023-E12C-46B4-A023-B1FEB3402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E7FD-9ADA-460D-9205-E36C7F4A5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837F-96EE-46FE-AA34-7DA8F6BA48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A14A-93B6-4558-8214-B690C7C863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8600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395240"/>
            <a:ext cx="2698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017DE-FBEC-479E-9169-14A7D6586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B0D0D-25B8-402C-91C4-3B375BCEC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C7A7-3E9F-4069-8FD0-F3D7F7F77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8377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1027-EBA2-41D4-AFCE-20B8F6891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7C9DA-309A-49F7-955C-656DC7A50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040" y="439524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86471-2F2A-4063-8115-9550B7408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040" y="2286000"/>
            <a:ext cx="40903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395240"/>
            <a:ext cx="8382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7E267-CB44-4B38-8D7E-A4B762B68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7262" t="6352" r="10487" b="3395"/>
          <a:stretch/>
        </p:blipFill>
        <p:spPr>
          <a:xfrm>
            <a:off x="685800" y="1219320"/>
            <a:ext cx="7772400" cy="541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54366"/>
          <a:stretch/>
        </p:blipFill>
        <p:spPr>
          <a:xfrm>
            <a:off x="2495520" y="434880"/>
            <a:ext cx="6191280" cy="4032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668160" y="284040"/>
            <a:ext cx="154152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22860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752480"/>
            <a:ext cx="8226360" cy="0"/>
          </a:xfrm>
          <a:prstGeom prst="line">
            <a:avLst/>
          </a:prstGeom>
          <a:ln w="3816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7712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 OCP-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C7EF-91E3-4F01-9FF3-408F0D9D20ED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0" t="5707" r="0" b="0"/>
          <a:stretch/>
        </p:blipFill>
        <p:spPr>
          <a:xfrm>
            <a:off x="457200" y="2209680"/>
            <a:ext cx="8305920" cy="4267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038320"/>
            <a:ext cx="8318520" cy="18252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380880"/>
            <a:ext cx="2889000" cy="89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rcRect l="0" t="0" r="0" b="76113"/>
          <a:stretch/>
        </p:blipFill>
        <p:spPr>
          <a:xfrm>
            <a:off x="609480" y="1676520"/>
            <a:ext cx="8247240" cy="28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5049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662940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OCP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CP-IP SLD WG Outp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191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542200" y="1884240"/>
            <a:ext cx="3165120" cy="10314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ff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Regular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eatures constantly add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ckward compatibility mainta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upport for OCP-IP delive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lready planning future relea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62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280" y="54435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3341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3: 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267080"/>
            <a:ext cx="75960" cy="1067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4267080"/>
            <a:ext cx="30492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5627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pt 2003: 1.1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2895480"/>
            <a:ext cx="761760" cy="12193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2362320"/>
            <a:ext cx="12348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c 2003: OCP 2.0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2971800"/>
            <a:ext cx="228600" cy="11430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205740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1 &amp; Adapt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4267080"/>
            <a:ext cx="304920" cy="1676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01992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4: 2.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4267080"/>
            <a:ext cx="15228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0552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ug 2004: Monito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267080"/>
            <a:ext cx="228600" cy="13716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5715000"/>
            <a:ext cx="93024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b 2005: OCP 2.1 Suppor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3276720"/>
            <a:ext cx="75960" cy="91440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743200"/>
            <a:ext cx="93024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4: 2.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2666880"/>
            <a:ext cx="99072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1981080"/>
            <a:ext cx="18288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uly 2005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1 &amp; Example Package Releas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6400" y="5791320"/>
            <a:ext cx="1295280" cy="7635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rch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 &amp; TL3 Channel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6171840" y="4267080"/>
            <a:ext cx="609480" cy="14479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3124080"/>
            <a:ext cx="114300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ril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2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3581280"/>
            <a:ext cx="380880" cy="5335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5105520"/>
            <a:ext cx="1143000" cy="5961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y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heckers Introduc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4267080"/>
            <a:ext cx="228600" cy="76212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3276720"/>
            <a:ext cx="1218960" cy="428760"/>
          </a:xfrm>
          <a:prstGeom prst="rect">
            <a:avLst/>
          </a:prstGeom>
          <a:noFill/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t 2006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CP 2.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772400" y="3733920"/>
            <a:ext cx="152280" cy="3808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F8CA-0E08-4DBB-9D49-4DE9940F406A}" type="slidenum">
              <a:t>1</a:t>
            </a:fld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8:53:25Z</dcterms:created>
  <dc:creator>OCP-IP Administration</dc:creator>
  <dc:description/>
  <dc:language>en-US</dc:language>
  <cp:lastModifiedBy>aluukinen</cp:lastModifiedBy>
  <dcterms:modified xsi:type="dcterms:W3CDTF">2006-10-31T18:52:52Z</dcterms:modified>
  <cp:revision>168</cp:revision>
  <dc:subject/>
  <dc:title>OCP-IP Introductory Presentation</dc:title>
</cp:coreProperties>
</file>